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3B1E-A99C-45EE-A4C6-C8C2D41DD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57AF-9966-49AB-80C1-DFADDC86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387-1073-488E-936D-CF513D13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1A74-A354-428D-A706-3C702EF5A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76C4-DC09-48A8-88F6-BC0D6B6E6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4A3C-205F-4CA8-A0A8-14D4629CB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14DC-5062-4217-B062-E6F2EE21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7505-3348-4C86-812F-8563F3386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F9E6-0A39-4D01-9BC3-1850D6654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C997-FA44-46C5-BC54-82D31ECE9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ADAA-8989-4CAC-AAE8-173894485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5445-0DBF-409B-93B9-03A835B1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5CB-87F3-443A-8AAE-517D7AB3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92B-8574-4115-BFD0-ABFBDC1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908-2225-4667-9BCC-429FAB29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CDC-CA1E-4031-BADA-BC360F71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7F9-85E6-4355-95C6-24D351C2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06D-1B2B-4F9D-A32E-A010A65B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825-CA17-40A9-89EE-9A3A5459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B46-93B7-4CEB-B11B-287F2FB1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8BC-AFCD-4571-A360-948F2B60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010-377B-4911-9422-6B766424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EFF-BD31-45AC-AA42-8F57164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A15-5E97-4D97-8207-618E563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BE1E-9B1E-4B15-A762-07D111EEE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tle of proj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eri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sources including books, websites, articles, journals, interviews, etc. used for this experiment in MLA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POINT 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put too much information on 1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spelling and gramm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fonts, background, etc. are professional and appropriate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/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independent and dependent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that effect is a noun and affect is a ver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To determine the effec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IV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V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ulleted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background information you researched in order to understand your experi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i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your own wor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null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ull hypothesis = the one that assumes that any differences within the set of data is due to chance and is not signific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search hypothesis = the one being tested by the research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next slide for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amount of fertilizer will have no significant effect on plant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amount of fertilizer is increased, the height of the plants will incr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steps of your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 control, the variables you kept constant and how you kept them constant, and the levels of your independent var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include pictures (not videos or animations) of your experiment in progress in appropriate places throughout you power-point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include pictures of you conducting the experiment (this is for power-point only) and pictures without you in them (for backboard if you qualify for regio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only charts, tables and graphs of statist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include raw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all charts, tables and graphs have titles and are labe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that the IV is on the x-axis and the DV on the y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RESUL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findings of your resul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at data supports/does not support your research hypothesis and your 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0:02:39Z</dcterms:created>
  <dc:creator>Class</dc:creator>
  <dc:description/>
  <dc:language>en-US</dc:language>
  <cp:lastModifiedBy>Hollie</cp:lastModifiedBy>
  <dcterms:modified xsi:type="dcterms:W3CDTF">2012-12-26T18:54:01Z</dcterms:modified>
  <cp:revision>4</cp:revision>
  <dc:subject/>
  <dc:title>TITLE PAGE</dc:title>
</cp:coreProperties>
</file>