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D3C5-7304-4D74-BBD4-C3B61C16D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2B19-5D36-488C-A228-290C51F42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C817-07D8-4A26-BAEB-37FD30694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4C09-5D60-4D0B-AA30-896468EE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680C-0D97-4A49-8F3D-0DFC75F6A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E196-79D3-4D80-A989-EF92F700D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7B17-3CDA-43A5-B319-15D7B8A80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FF77-8827-497D-AC30-FE2DD7364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A11C-0D3D-4E91-A80B-3CFF250B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87F8-F586-4723-BCDC-8E9A54730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FED2-AE9B-4CBB-9B3A-BF6AE8636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7311-1282-4EF0-911E-CA9BF2E37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C23-E58F-4EBE-9285-69294A4A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E93-15C6-421B-8865-E9A8F197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772-9FF1-4D26-98C3-1238C8DE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517-64E9-467E-9914-6284EF9F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5A2-A828-4D25-84C2-00CCC84C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249-BBAD-4446-B4D2-D3148B79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082-0E32-4E6A-B624-0AA66C88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765-E250-41CA-98E2-354BFD34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5D9-A4DB-4A5B-87F1-802D8C28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595-FC88-4A25-9B06-1F884893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E6A-64CF-411B-AE94-0285288E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99B-F7E0-431C-8B52-1C72942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2A87-A830-4E74-B577-D2F54C2A6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tle of proj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eri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sources including books, websites, articles, journals, interviews, etc. used for this experiment in MLA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RPOINT EX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put too much information on 1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spelling and gramm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fonts, background, etc. are professional and appropriate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/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the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independent and dependent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that effect is a noun and affect is a ver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 To determine the effec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IV_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_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V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bulleted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background information you researched in order to understand your experi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i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your own wor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null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ull hypothesis = the one that assumes that any differences within the set of data is due to chance and is not signific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your 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search hypothesis = the one being tested by the research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next slide for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the amount of fertilizer will have no significant effect on plant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hypo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amount of fertilizer is increased, the height of the plants will incr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steps of your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 control, the variables you kept constant and how you kept them constant, and the levels of your independent var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take more than on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you include pictures (not videos or animations) of your experiment in progress in appropriate places throughout you power-point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include pictures of you conducting the experiment (this is for power-point only) and pictures without you in them (for backboard if you qualify for regio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only charts, tables and graphs of statist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include raw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all charts, tables and graphs have titles and are labe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that the IV is on the x-axis and the DV on the y-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RESUL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findings of your resul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that data supports/does not support your research hypothesis and your null hypothe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20:02:39Z</dcterms:created>
  <dc:creator>Class</dc:creator>
  <dc:description/>
  <dc:language>en-US</dc:language>
  <cp:lastModifiedBy>Hollie</cp:lastModifiedBy>
  <dcterms:modified xsi:type="dcterms:W3CDTF">2012-12-26T18:54:01Z</dcterms:modified>
  <cp:revision>4</cp:revision>
  <dc:subject/>
  <dc:title>TITLE PAGE</dc:title>
</cp:coreProperties>
</file>