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0B7D-E830-4DCC-BD33-D6C03AF61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03B4-98C7-47C8-A6BB-D27DE75AF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B00A-1142-4975-AF52-9882EAFCE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803D-8CF7-4199-955F-506F5F58D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2A21-A35C-4206-8AFB-B6128F242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9181-7C93-49F9-BFF3-BAA9538AA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4D32-8902-4F53-A766-EE4FD5BFB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98D5-4D81-415C-8F70-4BA0715E2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8B99-AC29-4F4D-9095-96F73A60D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A51C-D616-4A1D-AF4D-78C72D8E1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C68E-5E06-48E0-AF13-69C331267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E7E3-627A-4FB4-8F40-4EF48A46E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1D2-8F33-4359-A085-E7F2C33B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8FCD-01C0-4583-B797-64D882A7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156-A385-4B52-BD12-15F20D0A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472-EDDE-459A-A651-8B4FB189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467-3277-4C7D-9F77-D0796C68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F912-1FDB-4975-B710-A8559AEC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9D03-13D8-483E-A70E-49E8F304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C94C-9007-42EF-97EB-D87CF537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7415-6F8F-4616-8715-C99C8683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464D-E14C-469C-B010-A7DD4301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8A3-9F9A-4A10-9116-E9865CD0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7F6C-A52A-4774-A26B-DA0C9B46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A970-0B35-468B-86BD-2122CB78A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TITLE P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itle of proje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a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erio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all sources including books, websites, articles, journals, interviews, etc. used for this experiment in MLA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RPOINT EXT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put too much information on 1 sl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spelling and gramm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fonts, background, etc. are professional and appropriate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POSE/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the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the independent and dependent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that effect is a noun and affect is a ver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 To determine the effec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_IV_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V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bulleted 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the main background information you researched in order to understand your experi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take more than on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it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 your own wor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your null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ull hypothesis = the one that assumes that any differences within the set of data is due to chance and is not signific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your research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search hypothesis = the one being tested by the researcher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 next slide for 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ll hypothe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the amount of fertilizer will have no significant effect on plant h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 amount of fertilizer is increased, the height of the plants will increa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the steps of your proced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your control, the variables you kept constant and how you kept them constant, and the levels of your independent vari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take more than on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GRAP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you include pictures (not videos or animations) of your experiment in progress in appropriate places throughout you power-point presen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include pictures of you conducting the experiment (this is for power-point only) and pictures without you in them (for backboard if you qualify for regiona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S AND FIG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 only charts, tables and graphs of statistical analy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include raw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all charts, tables and graphs have titles and are label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that the IV is on the x-axis and the DV on the y-ax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OF RESUL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the main findings of your resul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how that data supports/does not support your research hypothesis and your null hypothe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20:02:39Z</dcterms:created>
  <dc:creator>Class</dc:creator>
  <dc:description/>
  <dc:language>en-US</dc:language>
  <cp:lastModifiedBy>Hollie</cp:lastModifiedBy>
  <dcterms:modified xsi:type="dcterms:W3CDTF">2012-12-26T18:54:01Z</dcterms:modified>
  <cp:revision>4</cp:revision>
  <dc:subject/>
  <dc:title>TITLE PAGE</dc:title>
</cp:coreProperties>
</file>