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14CF-C93B-4F11-8233-7476FEEF0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C031-D5FB-408A-96D4-367F15E8E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F31E-CF2F-4453-8D2A-F35EFDCEB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9155-CF28-47D8-8EBA-AEE484034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10E1-B911-41EF-8825-338A05928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465D-3B09-4185-97DD-511C536E4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5BDA-2AE6-4AE7-8BCA-3925A41DD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C967-366B-4658-A9F9-2CE6B4ADA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FD0E-5559-4FAE-B21C-81BE6A576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B961-D563-4DBF-A216-B00AF680A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E219-9B4A-4028-B580-B2843B5D5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66DA-D834-46D7-8A05-D3C363C66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4D5-D762-4150-969A-FBCC5DB5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F50B-F9F8-45A5-B22C-353BDF27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C9A-3E84-4E0A-A072-89038E70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54E-76CF-4630-9252-A06BDC5D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303-8DD7-4FCC-ACF0-7F9E9523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E3B4-DB56-414E-A8F0-F726965E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0ED-7ADF-4786-AFE5-441B8B61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09E-23BF-441C-A453-FD89C75D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755-BC9E-4002-AD25-D93023EE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8D3-6546-4F23-9F39-D53CA0F6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E6B3-CDD0-40F6-A249-DC365860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F7D4-E773-4D2C-BB7F-C6EAF05F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C86B-EBBF-45EF-A42E-E3DC433A6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TITLE P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itle of proje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a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erio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all sources including books, websites, articles, journals, interviews, etc. used for this experiment in MLA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RPOINT EXT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put too much information on 1 sl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spelling and gramm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fonts, background, etc. are professional and appropriate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POSE/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the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the independent and dependent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that effect is a noun and affect is a ver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 To determine the effec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_IV_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V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bulleted 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the main background information you researched in order to understand your experi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take more than on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it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 your own wor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your null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ull hypothesis = the one that assumes that any differences within the set of data is due to chance and is not signific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your research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search hypothesis = the one being tested by the researcher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 next slide for 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ll hypothe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the amount of fertilizer will have no significant effect on plant h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 amount of fertilizer is increased, the height of the plants will increa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the steps of your proced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your control, the variables you kept constant and how you kept them constant, and the levels of your independent vari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take more than on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GRAP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you include pictures (not videos or animations) of your experiment in progress in appropriate places throughout you power-point presen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include pictures of you conducting the experiment (this is for power-point only) and pictures without you in them (for backboard if you qualify for regiona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S AND FIG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 only charts, tables and graphs of statistical analy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include raw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all charts, tables and graphs have titles and are label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that the IV is on the x-axis and the DV on the y-ax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OF RESUL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the main findings of your resul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how that data supports/does not support your research hypothesis and your null hypothe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20:02:39Z</dcterms:created>
  <dc:creator>Class</dc:creator>
  <dc:description/>
  <dc:language>en-US</dc:language>
  <cp:lastModifiedBy>Hollie</cp:lastModifiedBy>
  <dcterms:modified xsi:type="dcterms:W3CDTF">2012-12-26T18:54:01Z</dcterms:modified>
  <cp:revision>4</cp:revision>
  <dc:subject/>
  <dc:title>TITLE PAGE</dc:title>
</cp:coreProperties>
</file>